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1126-5757-4289-B859-EF152579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6D96-92B2-4ACF-B7E6-3E811C90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338A4-641A-43A6-8A55-B70D99D5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00914-32C9-4951-AE6C-777D8D19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25C31-C807-4EA8-B194-9A9EFF87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4D02A-97D4-481B-8783-B7C47B45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FFC24-CBB2-4783-84E6-0A2AABA3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5BCC5-7504-4727-AC97-7E93FCED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F1C92-5330-4014-96B3-BF856824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04BA0-9904-4708-BC48-9DF314C2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45CC4-A1A0-49A6-9E4F-E925F62B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CDB5-B49F-4752-A587-1EB8F571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13FD-D8BB-47C8-A24E-F64C6476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E948-D90C-43D2-A080-3CC8002F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9763-4309-466B-BE11-28751104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B9B7-2099-4351-B258-FC49532C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5DAD-1D0E-4248-8C4C-953B6DA5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F127-6EDB-414E-AEA2-706641F5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BBDA-B48D-4F50-AB86-9EC1AF05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C33A-C2B2-4779-98A8-A2641AFF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2DBE-4DCD-4A0B-8B70-D6FA024A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6E9E-5E7C-46A2-BA61-1BE096C5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D3FE-1635-468D-B65C-A6130BF2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7FE2-AF42-4D82-9A42-17A9FE97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4180-E675-46FA-95C9-AFFF0B59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7D20-7636-4479-99B7-E7A06562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FC573-C091-4585-9F39-33436C95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2AD66-14AA-4C60-A22F-94FC2684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93949-A1E9-4857-BF10-FC28674E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1265F-61B6-4CB7-97E3-6C045D16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8D2C9-DB20-461A-B8E4-EA539999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B524-E2DF-4056-98F1-D80ECFE2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DCA78-F827-4915-9C3A-32704425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2154B-4AF4-48F2-832C-DFFC03A1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001E6-8F0A-401D-A501-D289F7D7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91BAF-2809-4F5E-99C9-DF5E0AE1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94564-EB13-490A-AA93-D96676F4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ED4F8-307D-41E9-B3F7-2BD6FB3C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292F6-D2B1-4840-86A0-6FFC8E3C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88EC0-D199-4FC2-B3B3-E845A061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3AA47-A99D-4A0D-89D7-1EEF2F9E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96B3B-32A4-4F18-B391-B3948111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0847-C8B0-459D-B5BC-B7F3FC99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06789-395C-4C42-987C-148C6EFD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353B0-3666-4BF8-A854-E2630017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FBC78-20EC-4651-9C6A-A9847EA2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F6E8A-7BE3-460A-864D-CB41C227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82E1C-98B3-4A76-8E6E-B849977A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6F5BA-B2FD-4341-B75E-8993AE69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8AFB7-A4A1-46CC-88FA-733ACBFB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27D2A-F1C5-45EB-A231-53B55F9C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68EC6-58EE-4F1C-9F71-DA0FA4B8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8E1DC-DAF5-46E0-ABC5-A92F1789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5314-E4BA-4A85-8C8B-ADC591E9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E6940-D193-45F5-9AB8-72D1D30E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7E239-8266-44DC-85BB-28DA2630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FE0B2-9029-4598-B90E-AAFB90E7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D2DF8-F08B-45AA-AC1A-7A7B6A7F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8EAA5-AFE1-4CE2-B9E0-066069CC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03BD5-AF16-4A66-964C-049DA98A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154B1-63DA-42A6-982C-93A9AEFC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61EAB-E2AC-4B95-AEDF-6BEDC582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B9E45-0CE5-4012-9D5D-0AD728A4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A181F-346E-4678-A62E-3F3A7FD6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B612-883B-4A71-9801-4487CC09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91330-B282-4579-8DB4-EB352D95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91B77-F62F-4E60-A837-2CB1026F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446F9-A31B-43C9-A11D-8CEBD641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2FAF2-3E91-4B49-8AAE-893B072B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AE10F-2460-4699-9405-4F6BA4AC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BF012-B273-415C-A69D-AA48B0F0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E4AE4-AAAE-461E-8630-AF0E18B3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B6D75-2DA4-4CA3-86B3-310B7C6D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342C6-B231-4467-AEEB-24B8A04A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FDCB3-DD9B-4CC5-B437-96FE9C83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8D41-92F8-426B-A4F8-960ED5BD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AA3DC-219F-47FD-9E5C-5FC22F72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6BB4F-C244-4E69-8FF5-8011FD80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F15EC-E225-4EE7-887F-F8473A69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9E81F-1AC0-4C32-923A-D351E457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0E841-9F44-4BFD-9E55-8955E5CC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00C1F-685A-4566-80C0-B5F4C0C0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270E8-5980-44AE-ACBA-BECF777E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9E0F3-A817-4981-9A15-FAD8CB55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EC285-FA2E-499A-86B7-FCBA9A39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5F04E-A7F4-46FB-AD25-C8442700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AA76-F11D-453E-89DC-6260C74C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09B2A-4C76-4AA6-9087-686D092C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D8C69-02B9-4643-B272-0F8E10FA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FBA76-FE19-4611-AEEB-549F0351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D5255-D3D3-48FF-BF55-29DF73D5D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25AD6-0CD8-4494-A8FF-B3C32880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A6643-4033-473C-91F6-F3B76E74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A1B6E-D015-4727-9AA8-7E532AF5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3D6A1-C85C-49FF-B3C9-A48C6598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A6407-A895-4BC2-B230-7BEA569E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FF320-C62A-4C95-8B33-9A1C216F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9C76-C9D0-496F-84B6-28BBFE75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82385-26F8-4CD2-A4C9-7D7A91A9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98D7E-ECCE-4F41-9207-4A82F8F4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B6322-3A88-428B-B161-8CC84505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97FF2-17C6-4C7E-ADA6-C468EB79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7F0D0-2ED8-498E-95EE-F2031231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88B5C-3AF8-4B52-A5C0-415D304C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233E7-55D9-462F-8ACB-88C1D72D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A989D-5187-453C-9AD4-C8EBFBDA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B1695-F04A-4AD4-98C6-B41450F0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2BFDF-7D9C-4F54-9A4F-4AC43E8C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4F78-702E-4CF0-A7CC-BF411A022AF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燕尾形 7"/>
          <p:cNvSpPr/>
          <p:nvPr/>
        </p:nvSpPr>
        <p:spPr>
          <a:xfrm rot="5400000">
            <a:off x="4494240" y="-838080"/>
            <a:ext cx="3200400" cy="121917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2191760"/>
              <a:gd name="textAreaBottom" fmla="*/ 12192120 h 1219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3"/>
          <p:cNvSpPr/>
          <p:nvPr/>
        </p:nvSpPr>
        <p:spPr>
          <a:xfrm>
            <a:off x="0" y="0"/>
            <a:ext cx="12192120" cy="4381560"/>
          </a:xfrm>
          <a:custGeom>
            <a:avLst/>
            <a:gdLst/>
            <a:ahLst/>
            <a:rect l="l" t="t" r="r" b="b"/>
            <a:pathLst>
              <a:path w="12192000" h="5044965">
                <a:moveTo>
                  <a:pt x="0" y="0"/>
                </a:moveTo>
                <a:lnTo>
                  <a:pt x="12192000" y="0"/>
                </a:lnTo>
                <a:lnTo>
                  <a:pt x="12192000" y="4210775"/>
                </a:lnTo>
                <a:lnTo>
                  <a:pt x="6132786" y="5044965"/>
                </a:lnTo>
                <a:lnTo>
                  <a:pt x="0" y="4210775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5"/>
          <p:cNvSpPr/>
          <p:nvPr/>
        </p:nvSpPr>
        <p:spPr>
          <a:xfrm>
            <a:off x="6095880" y="0"/>
            <a:ext cx="6096240" cy="4572000"/>
          </a:xfrm>
          <a:custGeom>
            <a:avLst/>
            <a:gdLst/>
            <a:ahLst/>
            <a:rect l="l" t="t" r="r" b="b"/>
            <a:pathLst>
              <a:path w="6096000" h="4572001">
                <a:moveTo>
                  <a:pt x="0" y="0"/>
                </a:moveTo>
                <a:lnTo>
                  <a:pt x="6096000" y="0"/>
                </a:lnTo>
                <a:lnTo>
                  <a:pt x="6096000" y="3846788"/>
                </a:lnTo>
                <a:lnTo>
                  <a:pt x="0" y="457200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组合 10" descr=""/>
          <p:cNvPicPr/>
          <p:nvPr/>
        </p:nvPicPr>
        <p:blipFill>
          <a:blip r:embed="rId4"/>
          <a:stretch/>
        </p:blipFill>
        <p:spPr>
          <a:xfrm>
            <a:off x="1847880" y="4797360"/>
            <a:ext cx="663480" cy="658800"/>
          </a:xfrm>
          <a:prstGeom prst="rect">
            <a:avLst/>
          </a:prstGeom>
          <a:ln w="0">
            <a:noFill/>
          </a:ln>
        </p:spPr>
      </p:pic>
      <p:pic>
        <p:nvPicPr>
          <p:cNvPr id="47" name="组合 17" descr=""/>
          <p:cNvPicPr/>
          <p:nvPr/>
        </p:nvPicPr>
        <p:blipFill>
          <a:blip r:embed="rId5"/>
          <a:stretch/>
        </p:blipFill>
        <p:spPr>
          <a:xfrm>
            <a:off x="8180280" y="4780080"/>
            <a:ext cx="658800" cy="657000"/>
          </a:xfrm>
          <a:prstGeom prst="rect">
            <a:avLst/>
          </a:prstGeom>
          <a:ln w="0">
            <a:noFill/>
          </a:ln>
        </p:spPr>
      </p:pic>
      <p:pic>
        <p:nvPicPr>
          <p:cNvPr id="48" name="组合 22" descr=""/>
          <p:cNvPicPr/>
          <p:nvPr/>
        </p:nvPicPr>
        <p:blipFill>
          <a:blip r:embed="rId6"/>
          <a:stretch/>
        </p:blipFill>
        <p:spPr>
          <a:xfrm>
            <a:off x="4645080" y="4797360"/>
            <a:ext cx="658800" cy="665280"/>
          </a:xfrm>
          <a:prstGeom prst="rect">
            <a:avLst/>
          </a:prstGeom>
          <a:ln w="0">
            <a:noFill/>
          </a:ln>
        </p:spPr>
      </p:pic>
      <p:sp>
        <p:nvSpPr>
          <p:cNvPr id="49" name="燕尾形 30"/>
          <p:cNvSpPr/>
          <p:nvPr/>
        </p:nvSpPr>
        <p:spPr>
          <a:xfrm rot="5400000">
            <a:off x="5638320" y="-1981080"/>
            <a:ext cx="914400" cy="12192120"/>
          </a:xfrm>
          <a:custGeom>
            <a:avLst/>
            <a:gdLst>
              <a:gd name="textAreaLeft" fmla="*/ 0 w 914400"/>
              <a:gd name="textAreaRight" fmla="*/ 914760 w 914400"/>
              <a:gd name="textAreaTop" fmla="*/ 0 h 12192120"/>
              <a:gd name="textAreaBottom" fmla="*/ 12192480 h 1219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69" y="0"/>
                </a:lnTo>
                <a:lnTo>
                  <a:pt x="21600" y="10800"/>
                </a:lnTo>
                <a:lnTo>
                  <a:pt x="4969" y="21600"/>
                </a:lnTo>
                <a:lnTo>
                  <a:pt x="0" y="21600"/>
                </a:lnTo>
                <a:lnTo>
                  <a:pt x="16631" y="10800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012C-EAF2-4702-A13F-4AAB97005B0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0" y="6665760"/>
            <a:ext cx="933300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/>
          <p:cNvSpPr/>
          <p:nvPr/>
        </p:nvSpPr>
        <p:spPr>
          <a:xfrm>
            <a:off x="10672920" y="6665760"/>
            <a:ext cx="151272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9412200" y="6665760"/>
            <a:ext cx="1187640" cy="203400"/>
          </a:xfrm>
          <a:prstGeom prst="rect">
            <a:avLst/>
          </a:prstGeom>
          <a:solidFill>
            <a:srgbClr val="678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14" descr=""/>
          <p:cNvPicPr/>
          <p:nvPr/>
        </p:nvPicPr>
        <p:blipFill>
          <a:blip r:embed="rId3"/>
          <a:stretch/>
        </p:blipFill>
        <p:spPr>
          <a:xfrm>
            <a:off x="217440" y="187200"/>
            <a:ext cx="863640" cy="741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7158-CC73-4117-A6FA-ADFE7004B9B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1"/>
          <p:cNvGrpSpPr/>
          <p:nvPr/>
        </p:nvGrpSpPr>
        <p:grpSpPr>
          <a:xfrm>
            <a:off x="263520" y="2465280"/>
            <a:ext cx="914400" cy="1927440"/>
            <a:chOff x="263520" y="2465280"/>
            <a:chExt cx="914400" cy="1927440"/>
          </a:xfrm>
        </p:grpSpPr>
        <p:sp>
          <p:nvSpPr>
            <p:cNvPr id="139" name="矩形 8"/>
            <p:cNvSpPr/>
            <p:nvPr/>
          </p:nvSpPr>
          <p:spPr>
            <a:xfrm>
              <a:off x="263520" y="2465280"/>
              <a:ext cx="125280" cy="1927440"/>
            </a:xfrm>
            <a:prstGeom prst="rect">
              <a:avLst/>
            </a:prstGeom>
            <a:solidFill>
              <a:srgbClr val="3332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9"/>
            <p:cNvSpPr/>
            <p:nvPr/>
          </p:nvSpPr>
          <p:spPr>
            <a:xfrm>
              <a:off x="444240" y="2465280"/>
              <a:ext cx="733680" cy="1927440"/>
            </a:xfrm>
            <a:prstGeom prst="rect">
              <a:avLst/>
            </a:prstGeom>
            <a:solidFill>
              <a:srgbClr val="3332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组合 13"/>
            <p:cNvGrpSpPr/>
            <p:nvPr/>
          </p:nvGrpSpPr>
          <p:grpSpPr>
            <a:xfrm>
              <a:off x="557640" y="2664000"/>
              <a:ext cx="482760" cy="654840"/>
              <a:chOff x="557640" y="2664000"/>
              <a:chExt cx="482760" cy="654840"/>
            </a:xfrm>
          </p:grpSpPr>
          <p:sp>
            <p:nvSpPr>
              <p:cNvPr id="142" name="KSO_Shape"/>
              <p:cNvSpPr/>
              <p:nvPr/>
            </p:nvSpPr>
            <p:spPr>
              <a:xfrm>
                <a:off x="633600" y="2664000"/>
                <a:ext cx="374760" cy="572400"/>
              </a:xfrm>
              <a:custGeom>
                <a:avLst/>
                <a:gdLst/>
                <a:ahLst/>
                <a:rect l="l" t="t" r="r" b="b"/>
                <a:pathLst>
                  <a:path w="791665" h="1206638">
                    <a:moveTo>
                      <a:pt x="395833" y="194422"/>
                    </a:moveTo>
                    <a:cubicBezTo>
                      <a:pt x="284597" y="194422"/>
                      <a:pt x="194422" y="284596"/>
                      <a:pt x="194422" y="395833"/>
                    </a:cubicBezTo>
                    <a:cubicBezTo>
                      <a:pt x="194422" y="507069"/>
                      <a:pt x="284597" y="597244"/>
                      <a:pt x="395833" y="597244"/>
                    </a:cubicBezTo>
                    <a:cubicBezTo>
                      <a:pt x="507070" y="597244"/>
                      <a:pt x="597244" y="507069"/>
                      <a:pt x="597244" y="395833"/>
                    </a:cubicBezTo>
                    <a:cubicBezTo>
                      <a:pt x="597244" y="284596"/>
                      <a:pt x="507070" y="194422"/>
                      <a:pt x="395833" y="194422"/>
                    </a:cubicBezTo>
                    <a:close/>
                    <a:moveTo>
                      <a:pt x="395833" y="0"/>
                    </a:moveTo>
                    <a:cubicBezTo>
                      <a:pt x="497135" y="-1"/>
                      <a:pt x="598438" y="38646"/>
                      <a:pt x="675729" y="115937"/>
                    </a:cubicBezTo>
                    <a:cubicBezTo>
                      <a:pt x="830312" y="270519"/>
                      <a:pt x="830312" y="521146"/>
                      <a:pt x="675729" y="675729"/>
                    </a:cubicBezTo>
                    <a:lnTo>
                      <a:pt x="374888" y="1206638"/>
                    </a:lnTo>
                    <a:cubicBezTo>
                      <a:pt x="281589" y="1113339"/>
                      <a:pt x="209236" y="769028"/>
                      <a:pt x="115937" y="675729"/>
                    </a:cubicBezTo>
                    <a:cubicBezTo>
                      <a:pt x="-38646" y="521146"/>
                      <a:pt x="-38646" y="270519"/>
                      <a:pt x="115937" y="115937"/>
                    </a:cubicBezTo>
                    <a:cubicBezTo>
                      <a:pt x="193228" y="38646"/>
                      <a:pt x="294531" y="-1"/>
                      <a:pt x="39583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椭圆 12"/>
              <p:cNvSpPr/>
              <p:nvPr/>
            </p:nvSpPr>
            <p:spPr>
              <a:xfrm>
                <a:off x="557640" y="3236400"/>
                <a:ext cx="48276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2ADA-71D1-4E65-B414-C19E21FAFBA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7"/>
          <p:cNvSpPr/>
          <p:nvPr/>
        </p:nvSpPr>
        <p:spPr>
          <a:xfrm>
            <a:off x="0" y="6665760"/>
            <a:ext cx="933300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8"/>
          <p:cNvSpPr/>
          <p:nvPr/>
        </p:nvSpPr>
        <p:spPr>
          <a:xfrm>
            <a:off x="10672920" y="6665760"/>
            <a:ext cx="151272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9"/>
          <p:cNvSpPr/>
          <p:nvPr/>
        </p:nvSpPr>
        <p:spPr>
          <a:xfrm>
            <a:off x="9412200" y="6665760"/>
            <a:ext cx="1187640" cy="203400"/>
          </a:xfrm>
          <a:prstGeom prst="rect">
            <a:avLst/>
          </a:prstGeom>
          <a:solidFill>
            <a:srgbClr val="678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14" descr=""/>
          <p:cNvPicPr/>
          <p:nvPr/>
        </p:nvPicPr>
        <p:blipFill>
          <a:blip r:embed="rId3"/>
          <a:stretch/>
        </p:blipFill>
        <p:spPr>
          <a:xfrm>
            <a:off x="217440" y="187200"/>
            <a:ext cx="863640" cy="7416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5167-DECD-4069-86DE-BB7C35E45BF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1218564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燕尾形 8"/>
          <p:cNvSpPr/>
          <p:nvPr/>
        </p:nvSpPr>
        <p:spPr>
          <a:xfrm>
            <a:off x="1936800" y="0"/>
            <a:ext cx="9402840" cy="6858000"/>
          </a:xfrm>
          <a:custGeom>
            <a:avLst/>
            <a:gdLst>
              <a:gd name="textAreaLeft" fmla="*/ 0 w 9402840"/>
              <a:gd name="textAreaRight" fmla="*/ 9403200 w 940284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30" y="0"/>
                </a:lnTo>
                <a:lnTo>
                  <a:pt x="21600" y="10800"/>
                </a:lnTo>
                <a:lnTo>
                  <a:pt x="14130" y="21600"/>
                </a:lnTo>
                <a:lnTo>
                  <a:pt x="0" y="21600"/>
                </a:lnTo>
                <a:lnTo>
                  <a:pt x="7470" y="10800"/>
                </a:lnTo>
                <a:close/>
              </a:path>
            </a:pathLst>
          </a:custGeom>
          <a:solidFill>
            <a:srgbClr val="99cc00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燕尾形 9"/>
          <p:cNvSpPr/>
          <p:nvPr/>
        </p:nvSpPr>
        <p:spPr>
          <a:xfrm>
            <a:off x="8244000" y="0"/>
            <a:ext cx="3898800" cy="6858000"/>
          </a:xfrm>
          <a:custGeom>
            <a:avLst/>
            <a:gdLst>
              <a:gd name="textAreaLeft" fmla="*/ 0 w 3898800"/>
              <a:gd name="textAreaRight" fmla="*/ 3899160 w 38988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643" y="0"/>
                </a:lnTo>
                <a:lnTo>
                  <a:pt x="21600" y="10800"/>
                </a:lnTo>
                <a:lnTo>
                  <a:pt x="3643" y="21600"/>
                </a:lnTo>
                <a:lnTo>
                  <a:pt x="0" y="21600"/>
                </a:lnTo>
                <a:lnTo>
                  <a:pt x="17957" y="10800"/>
                </a:ln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燕尾形 10"/>
          <p:cNvSpPr/>
          <p:nvPr/>
        </p:nvSpPr>
        <p:spPr>
          <a:xfrm>
            <a:off x="1150920" y="0"/>
            <a:ext cx="3898800" cy="6858000"/>
          </a:xfrm>
          <a:custGeom>
            <a:avLst/>
            <a:gdLst>
              <a:gd name="textAreaLeft" fmla="*/ 0 w 3898800"/>
              <a:gd name="textAreaRight" fmla="*/ 3899160 w 38988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643" y="0"/>
                </a:lnTo>
                <a:lnTo>
                  <a:pt x="21600" y="10800"/>
                </a:lnTo>
                <a:lnTo>
                  <a:pt x="3643" y="21600"/>
                </a:lnTo>
                <a:lnTo>
                  <a:pt x="0" y="21600"/>
                </a:lnTo>
                <a:lnTo>
                  <a:pt x="17957" y="10800"/>
                </a:ln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D00C-D154-45F4-A788-56F57353807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7"/>
          <p:cNvSpPr/>
          <p:nvPr/>
        </p:nvSpPr>
        <p:spPr>
          <a:xfrm>
            <a:off x="0" y="6665760"/>
            <a:ext cx="933300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8"/>
          <p:cNvSpPr/>
          <p:nvPr/>
        </p:nvSpPr>
        <p:spPr>
          <a:xfrm>
            <a:off x="10672920" y="6665760"/>
            <a:ext cx="151272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9"/>
          <p:cNvSpPr/>
          <p:nvPr/>
        </p:nvSpPr>
        <p:spPr>
          <a:xfrm>
            <a:off x="9412200" y="6665760"/>
            <a:ext cx="1187640" cy="203400"/>
          </a:xfrm>
          <a:prstGeom prst="rect">
            <a:avLst/>
          </a:prstGeom>
          <a:solidFill>
            <a:srgbClr val="678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14" descr=""/>
          <p:cNvPicPr/>
          <p:nvPr/>
        </p:nvPicPr>
        <p:blipFill>
          <a:blip r:embed="rId3"/>
          <a:stretch/>
        </p:blipFill>
        <p:spPr>
          <a:xfrm>
            <a:off x="217440" y="187200"/>
            <a:ext cx="863640" cy="7416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D8CB-D0A7-4F23-A7DE-2E882076AEB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图片 14" descr=""/>
          <p:cNvPicPr/>
          <p:nvPr/>
        </p:nvPicPr>
        <p:blipFill>
          <a:blip r:embed="rId3"/>
          <a:stretch/>
        </p:blipFill>
        <p:spPr>
          <a:xfrm>
            <a:off x="217440" y="187200"/>
            <a:ext cx="863640" cy="74160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6988-56D2-4BC5-80A4-342539436F5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7"/>
          <p:cNvSpPr/>
          <p:nvPr/>
        </p:nvSpPr>
        <p:spPr>
          <a:xfrm>
            <a:off x="0" y="6665760"/>
            <a:ext cx="933300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8"/>
          <p:cNvSpPr/>
          <p:nvPr/>
        </p:nvSpPr>
        <p:spPr>
          <a:xfrm>
            <a:off x="10672920" y="6665760"/>
            <a:ext cx="151272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9"/>
          <p:cNvSpPr/>
          <p:nvPr/>
        </p:nvSpPr>
        <p:spPr>
          <a:xfrm>
            <a:off x="9412200" y="6665760"/>
            <a:ext cx="1187640" cy="203400"/>
          </a:xfrm>
          <a:prstGeom prst="rect">
            <a:avLst/>
          </a:prstGeom>
          <a:solidFill>
            <a:srgbClr val="678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图片 14" descr=""/>
          <p:cNvPicPr/>
          <p:nvPr/>
        </p:nvPicPr>
        <p:blipFill>
          <a:blip r:embed="rId3"/>
          <a:stretch/>
        </p:blipFill>
        <p:spPr>
          <a:xfrm>
            <a:off x="217440" y="187200"/>
            <a:ext cx="863640" cy="7416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5B92-D8C6-4B61-99AF-1652F03E08B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WordArt 4"/>
          <p:cNvSpPr txBox="1"/>
          <p:nvPr/>
        </p:nvSpPr>
        <p:spPr>
          <a:xfrm>
            <a:off x="3359160" y="1693800"/>
            <a:ext cx="547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微软雅黑"/>
              </a:rPr>
              <a:t>快乐读书吧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99cc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61880" y="225360"/>
            <a:ext cx="705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统编教材二年级上册第一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2590920" y="3328920"/>
            <a:ext cx="70117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江苏省苏州市吴江区盛泽实验小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李萍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jr06"/>
          <p:cNvPicPr/>
          <p:nvPr/>
        </p:nvPicPr>
        <p:blipFill>
          <a:blip r:embed="rId1"/>
          <a:stretch/>
        </p:blipFill>
        <p:spPr>
          <a:xfrm>
            <a:off x="152388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C:\Documents and Settings\Administrator\桌面\09.jpg"/>
          <p:cNvPicPr/>
          <p:nvPr/>
        </p:nvPicPr>
        <p:blipFill>
          <a:blip r:embed="rId2"/>
          <a:stretch/>
        </p:blipFill>
        <p:spPr>
          <a:xfrm>
            <a:off x="1776240" y="4578480"/>
            <a:ext cx="8568000" cy="196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AutoShape 18"/>
          <p:cNvSpPr/>
          <p:nvPr/>
        </p:nvSpPr>
        <p:spPr>
          <a:xfrm>
            <a:off x="534960" y="219240"/>
            <a:ext cx="3745080" cy="2349360"/>
          </a:xfrm>
          <a:prstGeom prst="cloudCallout">
            <a:avLst>
              <a:gd name="adj1" fmla="val 86675"/>
              <a:gd name="adj2" fmla="val 53254"/>
            </a:avLst>
          </a:prstGeom>
          <a:solidFill>
            <a:srgbClr val="ccffcc">
              <a:alpha val="30000"/>
            </a:srgbClr>
          </a:solidFill>
          <a:ln cap="rnd" w="93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2766960" y="3025800"/>
            <a:ext cx="7456680" cy="3340080"/>
          </a:xfrm>
          <a:prstGeom prst="rect">
            <a:avLst/>
          </a:prstGeom>
          <a:ln w="47520">
            <a:solidFill>
              <a:srgbClr val="00b050"/>
            </a:solidFill>
            <a:miter/>
          </a:ln>
        </p:spPr>
      </p:pic>
      <p:sp>
        <p:nvSpPr>
          <p:cNvPr id="419" name="TextBox 1"/>
          <p:cNvSpPr/>
          <p:nvPr/>
        </p:nvSpPr>
        <p:spPr>
          <a:xfrm>
            <a:off x="946080" y="10746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知道他们分别叫什么名字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2895480" y="3025800"/>
            <a:ext cx="1884600" cy="146988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41"/>
          <p:cNvGrpSpPr/>
          <p:nvPr/>
        </p:nvGrpSpPr>
        <p:grpSpPr>
          <a:xfrm>
            <a:off x="8710560" y="3301920"/>
            <a:ext cx="1513080" cy="549360"/>
            <a:chOff x="8710560" y="3301920"/>
            <a:chExt cx="1513080" cy="549360"/>
          </a:xfrm>
        </p:grpSpPr>
        <p:sp>
          <p:nvSpPr>
            <p:cNvPr id="422" name="AutoShape 42"/>
            <p:cNvSpPr/>
            <p:nvPr/>
          </p:nvSpPr>
          <p:spPr>
            <a:xfrm>
              <a:off x="8710560" y="3301920"/>
              <a:ext cx="1513080" cy="549360"/>
            </a:xfrm>
            <a:prstGeom prst="roundRect">
              <a:avLst>
                <a:gd name="adj" fmla="val 50000"/>
              </a:avLst>
            </a:prstGeom>
            <a:solidFill>
              <a:srgbClr val="ffcc00"/>
            </a:soli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43"/>
            <p:cNvSpPr/>
            <p:nvPr/>
          </p:nvSpPr>
          <p:spPr>
            <a:xfrm>
              <a:off x="8750880" y="3316680"/>
              <a:ext cx="14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不高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8"/>
          <p:cNvGrpSpPr/>
          <p:nvPr/>
        </p:nvGrpSpPr>
        <p:grpSpPr>
          <a:xfrm>
            <a:off x="1171440" y="371520"/>
            <a:ext cx="5472000" cy="647640"/>
            <a:chOff x="1171440" y="371520"/>
            <a:chExt cx="5472000" cy="647640"/>
          </a:xfrm>
        </p:grpSpPr>
        <p:sp>
          <p:nvSpPr>
            <p:cNvPr id="425" name="AutoShape 6"/>
            <p:cNvSpPr/>
            <p:nvPr/>
          </p:nvSpPr>
          <p:spPr>
            <a:xfrm>
              <a:off x="1171440" y="371520"/>
              <a:ext cx="547200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7"/>
            <p:cNvSpPr/>
            <p:nvPr/>
          </p:nvSpPr>
          <p:spPr>
            <a:xfrm>
              <a:off x="1315800" y="371520"/>
              <a:ext cx="532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听故事，猜一猜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矩形 11"/>
          <p:cNvSpPr/>
          <p:nvPr/>
        </p:nvSpPr>
        <p:spPr>
          <a:xfrm>
            <a:off x="679320" y="1658880"/>
            <a:ext cx="358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没头脑” 赶紧找回了书包，可是又发生了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7335720" y="150984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不高兴”站在墙头耍杂技 ，老师赶紧喊他下来，他会怎么回答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1"/>
          <p:cNvSpPr/>
          <p:nvPr/>
        </p:nvSpPr>
        <p:spPr>
          <a:xfrm>
            <a:off x="7021440" y="1219320"/>
            <a:ext cx="4260960" cy="2090520"/>
          </a:xfrm>
          <a:prstGeom prst="wedgeRoundRectCallout">
            <a:avLst>
              <a:gd name="adj1" fmla="val -37759"/>
              <a:gd name="adj2" fmla="val 83773"/>
              <a:gd name="adj3" fmla="val 16667"/>
            </a:avLst>
          </a:prstGeom>
          <a:noFill/>
          <a:ln cap="rnd" w="3492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0"/>
          <p:cNvSpPr/>
          <p:nvPr/>
        </p:nvSpPr>
        <p:spPr>
          <a:xfrm>
            <a:off x="434880" y="1523880"/>
            <a:ext cx="4075200" cy="1643040"/>
          </a:xfrm>
          <a:prstGeom prst="wedgeRoundRectCallout">
            <a:avLst>
              <a:gd name="adj1" fmla="val 30162"/>
              <a:gd name="adj2" fmla="val 82486"/>
              <a:gd name="adj3" fmla="val 16667"/>
            </a:avLst>
          </a:prstGeom>
          <a:noFill/>
          <a:ln cap="rnd" w="3492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2857680" y="4033800"/>
            <a:ext cx="5614920" cy="248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16"/>
          <p:cNvGrpSpPr/>
          <p:nvPr/>
        </p:nvGrpSpPr>
        <p:grpSpPr>
          <a:xfrm>
            <a:off x="396720" y="925560"/>
            <a:ext cx="4247640" cy="1252080"/>
            <a:chOff x="396720" y="925560"/>
            <a:chExt cx="4247640" cy="1252080"/>
          </a:xfrm>
        </p:grpSpPr>
        <p:sp>
          <p:nvSpPr>
            <p:cNvPr id="433" name="AutoShape 12"/>
            <p:cNvSpPr/>
            <p:nvPr/>
          </p:nvSpPr>
          <p:spPr>
            <a:xfrm>
              <a:off x="396720" y="925560"/>
              <a:ext cx="4247640" cy="1252080"/>
            </a:xfrm>
            <a:prstGeom prst="wedgeRoundRectCallout">
              <a:avLst>
                <a:gd name="adj1" fmla="val 39513"/>
                <a:gd name="adj2" fmla="val 77916"/>
                <a:gd name="adj3" fmla="val 16667"/>
              </a:avLst>
            </a:prstGeom>
            <a:noFill/>
            <a:ln cap="rnd" w="349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15"/>
            <p:cNvSpPr/>
            <p:nvPr/>
          </p:nvSpPr>
          <p:spPr>
            <a:xfrm>
              <a:off x="611640" y="1071720"/>
              <a:ext cx="403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</a:rPr>
                <a:t>为什么他们的名字叫“没头脑”和“不高兴”呢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5" name="Picture 1" descr="C:\Documents and Settings\Administrator\Application Data\Tencent\Users\2399319046\QQ\WinTemp\RichOle\F5H(@N0~VBG1V~LGIF]4W[K.png"/>
          <p:cNvPicPr/>
          <p:nvPr/>
        </p:nvPicPr>
        <p:blipFill>
          <a:blip r:embed="rId1"/>
          <a:stretch/>
        </p:blipFill>
        <p:spPr>
          <a:xfrm>
            <a:off x="5165640" y="1582560"/>
            <a:ext cx="6121440" cy="4686480"/>
          </a:xfrm>
          <a:prstGeom prst="rect">
            <a:avLst/>
          </a:prstGeom>
          <a:ln w="66600">
            <a:solidFill>
              <a:srgbClr val="41719c"/>
            </a:solidFill>
            <a:miter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8"/>
          <p:cNvGrpSpPr/>
          <p:nvPr/>
        </p:nvGrpSpPr>
        <p:grpSpPr>
          <a:xfrm>
            <a:off x="1235160" y="284040"/>
            <a:ext cx="5679720" cy="647640"/>
            <a:chOff x="1235160" y="284040"/>
            <a:chExt cx="5679720" cy="647640"/>
          </a:xfrm>
        </p:grpSpPr>
        <p:sp>
          <p:nvSpPr>
            <p:cNvPr id="437" name="AutoShape 6"/>
            <p:cNvSpPr/>
            <p:nvPr/>
          </p:nvSpPr>
          <p:spPr>
            <a:xfrm>
              <a:off x="1236960" y="284040"/>
              <a:ext cx="567792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7"/>
            <p:cNvSpPr/>
            <p:nvPr/>
          </p:nvSpPr>
          <p:spPr>
            <a:xfrm>
              <a:off x="1235160" y="284040"/>
              <a:ext cx="567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读名字，再猜一猜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Text Box 8"/>
          <p:cNvSpPr/>
          <p:nvPr/>
        </p:nvSpPr>
        <p:spPr>
          <a:xfrm>
            <a:off x="5362560" y="1441440"/>
            <a:ext cx="33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它叫什么名字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1"/>
          <p:cNvSpPr/>
          <p:nvPr/>
        </p:nvSpPr>
        <p:spPr>
          <a:xfrm>
            <a:off x="5256360" y="1162080"/>
            <a:ext cx="3644640" cy="1247760"/>
          </a:xfrm>
          <a:prstGeom prst="wedgeRoundRectCallout">
            <a:avLst>
              <a:gd name="adj1" fmla="val -46962"/>
              <a:gd name="adj2" fmla="val 124662"/>
              <a:gd name="adj3" fmla="val 16667"/>
            </a:avLst>
          </a:prstGeom>
          <a:noFill/>
          <a:ln cap="rnd" w="3492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图片 6" descr=""/>
          <p:cNvPicPr/>
          <p:nvPr/>
        </p:nvPicPr>
        <p:blipFill>
          <a:blip r:embed="rId1"/>
          <a:stretch/>
        </p:blipFill>
        <p:spPr>
          <a:xfrm>
            <a:off x="1407960" y="1693800"/>
            <a:ext cx="3549960" cy="4248360"/>
          </a:xfrm>
          <a:prstGeom prst="rect">
            <a:avLst/>
          </a:prstGeom>
          <a:ln w="0">
            <a:noFill/>
          </a:ln>
        </p:spPr>
      </p:pic>
      <p:grpSp>
        <p:nvGrpSpPr>
          <p:cNvPr id="442" name="组合 8"/>
          <p:cNvGrpSpPr/>
          <p:nvPr/>
        </p:nvGrpSpPr>
        <p:grpSpPr>
          <a:xfrm>
            <a:off x="7594560" y="3263760"/>
            <a:ext cx="2664000" cy="1393920"/>
            <a:chOff x="7594560" y="3263760"/>
            <a:chExt cx="2664000" cy="1393920"/>
          </a:xfrm>
        </p:grpSpPr>
        <p:sp>
          <p:nvSpPr>
            <p:cNvPr id="443" name="AutoShape 529"/>
            <p:cNvSpPr/>
            <p:nvPr/>
          </p:nvSpPr>
          <p:spPr>
            <a:xfrm>
              <a:off x="7594560" y="3263760"/>
              <a:ext cx="2664000" cy="1393920"/>
            </a:xfrm>
            <a:prstGeom prst="roundRect">
              <a:avLst>
                <a:gd name="adj" fmla="val 1176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图片 7" descr=""/>
            <p:cNvPicPr/>
            <p:nvPr/>
          </p:nvPicPr>
          <p:blipFill>
            <a:blip r:embed="rId2"/>
            <a:stretch/>
          </p:blipFill>
          <p:spPr>
            <a:xfrm>
              <a:off x="7778880" y="3577320"/>
              <a:ext cx="2295360" cy="876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图片 3" descr=""/>
          <p:cNvPicPr/>
          <p:nvPr/>
        </p:nvPicPr>
        <p:blipFill>
          <a:blip r:embed="rId1"/>
          <a:stretch/>
        </p:blipFill>
        <p:spPr>
          <a:xfrm>
            <a:off x="6885000" y="463680"/>
            <a:ext cx="3986280" cy="4195800"/>
          </a:xfrm>
          <a:prstGeom prst="rect">
            <a:avLst/>
          </a:prstGeom>
          <a:ln w="0">
            <a:noFill/>
          </a:ln>
        </p:spPr>
      </p:pic>
      <p:grpSp>
        <p:nvGrpSpPr>
          <p:cNvPr id="446" name="组合 4"/>
          <p:cNvGrpSpPr/>
          <p:nvPr/>
        </p:nvGrpSpPr>
        <p:grpSpPr>
          <a:xfrm>
            <a:off x="1058760" y="4870440"/>
            <a:ext cx="4376880" cy="992160"/>
            <a:chOff x="1058760" y="4870440"/>
            <a:chExt cx="4376880" cy="992160"/>
          </a:xfrm>
        </p:grpSpPr>
        <p:sp>
          <p:nvSpPr>
            <p:cNvPr id="447" name="AutoShape 42"/>
            <p:cNvSpPr/>
            <p:nvPr/>
          </p:nvSpPr>
          <p:spPr>
            <a:xfrm>
              <a:off x="1058760" y="4870440"/>
              <a:ext cx="3284280" cy="992160"/>
            </a:xfrm>
            <a:prstGeom prst="roundRect">
              <a:avLst>
                <a:gd name="adj" fmla="val 50000"/>
              </a:avLst>
            </a:prstGeom>
            <a:solidFill>
              <a:srgbClr val="ffcc00"/>
            </a:soli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43"/>
            <p:cNvSpPr/>
            <p:nvPr/>
          </p:nvSpPr>
          <p:spPr>
            <a:xfrm>
              <a:off x="1170720" y="5046120"/>
              <a:ext cx="426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</a:rPr>
                <a:t>长鼻子匹诺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图片 5" descr=""/>
          <p:cNvPicPr/>
          <p:nvPr/>
        </p:nvPicPr>
        <p:blipFill>
          <a:blip r:embed="rId2"/>
          <a:stretch/>
        </p:blipFill>
        <p:spPr>
          <a:xfrm>
            <a:off x="351000" y="-9360"/>
            <a:ext cx="5708520" cy="457488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42"/>
          <p:cNvSpPr/>
          <p:nvPr/>
        </p:nvSpPr>
        <p:spPr>
          <a:xfrm>
            <a:off x="7311960" y="4870440"/>
            <a:ext cx="3132360" cy="930240"/>
          </a:xfrm>
          <a:prstGeom prst="roundRect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3"/>
          <p:cNvSpPr/>
          <p:nvPr/>
        </p:nvSpPr>
        <p:spPr>
          <a:xfrm>
            <a:off x="6988320" y="50450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邋遢大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8"/>
          <p:cNvGrpSpPr/>
          <p:nvPr/>
        </p:nvGrpSpPr>
        <p:grpSpPr>
          <a:xfrm>
            <a:off x="1101600" y="252360"/>
            <a:ext cx="5860800" cy="650520"/>
            <a:chOff x="1101600" y="252360"/>
            <a:chExt cx="5860800" cy="650520"/>
          </a:xfrm>
        </p:grpSpPr>
        <p:sp>
          <p:nvSpPr>
            <p:cNvPr id="453" name="AutoShape 6"/>
            <p:cNvSpPr/>
            <p:nvPr/>
          </p:nvSpPr>
          <p:spPr>
            <a:xfrm>
              <a:off x="1101600" y="252360"/>
              <a:ext cx="569052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7"/>
            <p:cNvSpPr/>
            <p:nvPr/>
          </p:nvSpPr>
          <p:spPr>
            <a:xfrm>
              <a:off x="1422000" y="260280"/>
              <a:ext cx="554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比一比，学分享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16"/>
          <p:cNvGrpSpPr/>
          <p:nvPr/>
        </p:nvGrpSpPr>
        <p:grpSpPr>
          <a:xfrm>
            <a:off x="291960" y="1998720"/>
            <a:ext cx="4953960" cy="1890000"/>
            <a:chOff x="291960" y="1998720"/>
            <a:chExt cx="4953960" cy="1890000"/>
          </a:xfrm>
        </p:grpSpPr>
        <p:sp>
          <p:nvSpPr>
            <p:cNvPr id="456" name="AutoShape 12"/>
            <p:cNvSpPr/>
            <p:nvPr/>
          </p:nvSpPr>
          <p:spPr>
            <a:xfrm>
              <a:off x="622800" y="1998720"/>
              <a:ext cx="4291200" cy="1890000"/>
            </a:xfrm>
            <a:prstGeom prst="wedgeRoundRectCallout">
              <a:avLst>
                <a:gd name="adj1" fmla="val 39513"/>
                <a:gd name="adj2" fmla="val 77916"/>
                <a:gd name="adj3" fmla="val 16667"/>
              </a:avLst>
            </a:prstGeom>
            <a:noFill/>
            <a:ln cap="rnd" w="349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15"/>
            <p:cNvSpPr/>
            <p:nvPr/>
          </p:nvSpPr>
          <p:spPr>
            <a:xfrm>
              <a:off x="291960" y="2451600"/>
              <a:ext cx="495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</a:rPr>
                <a:t>谁的童话书最干净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组合 8"/>
          <p:cNvGrpSpPr/>
          <p:nvPr/>
        </p:nvGrpSpPr>
        <p:grpSpPr>
          <a:xfrm>
            <a:off x="7269120" y="2111400"/>
            <a:ext cx="4579920" cy="2482920"/>
            <a:chOff x="7269120" y="2111400"/>
            <a:chExt cx="4579920" cy="2482920"/>
          </a:xfrm>
        </p:grpSpPr>
        <p:pic>
          <p:nvPicPr>
            <p:cNvPr id="459" name="Picture 2" descr=""/>
            <p:cNvPicPr/>
            <p:nvPr/>
          </p:nvPicPr>
          <p:blipFill>
            <a:blip r:embed="rId1"/>
            <a:stretch/>
          </p:blipFill>
          <p:spPr>
            <a:xfrm>
              <a:off x="7269120" y="2111400"/>
              <a:ext cx="4579920" cy="24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Box 7"/>
            <p:cNvSpPr/>
            <p:nvPr/>
          </p:nvSpPr>
          <p:spPr>
            <a:xfrm>
              <a:off x="7269120" y="2465280"/>
              <a:ext cx="457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</a:rPr>
                <a:t>谁的童话书最有趣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1" name="Picture 558" descr="그림1"/>
          <p:cNvPicPr/>
          <p:nvPr/>
        </p:nvPicPr>
        <p:blipFill>
          <a:blip r:embed="rId2"/>
          <a:stretch/>
        </p:blipFill>
        <p:spPr>
          <a:xfrm>
            <a:off x="4745160" y="4319640"/>
            <a:ext cx="1989000" cy="1989000"/>
          </a:xfrm>
          <a:prstGeom prst="rect">
            <a:avLst/>
          </a:prstGeom>
          <a:ln w="0">
            <a:noFill/>
          </a:ln>
        </p:spPr>
      </p:pic>
      <p:sp>
        <p:nvSpPr>
          <p:cNvPr id="462" name="Oval 563"/>
          <p:cNvSpPr/>
          <p:nvPr/>
        </p:nvSpPr>
        <p:spPr>
          <a:xfrm>
            <a:off x="4618080" y="4287960"/>
            <a:ext cx="2244600" cy="1779480"/>
          </a:xfrm>
          <a:prstGeom prst="ellipse">
            <a:avLst/>
          </a:prstGeom>
          <a:gradFill rotWithShape="0">
            <a:gsLst>
              <a:gs pos="0">
                <a:srgbClr val="ffe715"/>
              </a:gs>
              <a:gs pos="100000">
                <a:srgbClr val="d2be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WordArt 560"/>
          <p:cNvSpPr txBox="1"/>
          <p:nvPr/>
        </p:nvSpPr>
        <p:spPr>
          <a:xfrm>
            <a:off x="5246640" y="4916520"/>
            <a:ext cx="104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比一比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图片 3" descr=""/>
          <p:cNvPicPr/>
          <p:nvPr/>
        </p:nvPicPr>
        <p:blipFill>
          <a:blip r:embed="rId1"/>
          <a:stretch/>
        </p:blipFill>
        <p:spPr>
          <a:xfrm>
            <a:off x="2347920" y="3997440"/>
            <a:ext cx="7496280" cy="246852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16"/>
          <p:cNvGrpSpPr/>
          <p:nvPr/>
        </p:nvGrpSpPr>
        <p:grpSpPr>
          <a:xfrm>
            <a:off x="577800" y="544680"/>
            <a:ext cx="4425120" cy="1762920"/>
            <a:chOff x="577800" y="544680"/>
            <a:chExt cx="4425120" cy="1762920"/>
          </a:xfrm>
        </p:grpSpPr>
        <p:sp>
          <p:nvSpPr>
            <p:cNvPr id="466" name="AutoShape 12"/>
            <p:cNvSpPr/>
            <p:nvPr/>
          </p:nvSpPr>
          <p:spPr>
            <a:xfrm>
              <a:off x="577800" y="544680"/>
              <a:ext cx="4264200" cy="1762920"/>
            </a:xfrm>
            <a:prstGeom prst="wedgeRoundRectCallout">
              <a:avLst>
                <a:gd name="adj1" fmla="val 48638"/>
                <a:gd name="adj2" fmla="val 89782"/>
                <a:gd name="adj3" fmla="val 16667"/>
              </a:avLst>
            </a:prstGeom>
            <a:noFill/>
            <a:ln cap="rnd" w="349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5"/>
            <p:cNvSpPr/>
            <p:nvPr/>
          </p:nvSpPr>
          <p:spPr>
            <a:xfrm>
              <a:off x="577800" y="878400"/>
              <a:ext cx="442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</a:rPr>
                <a:t>先看看封面，找找书名和作者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组合 8"/>
          <p:cNvGrpSpPr/>
          <p:nvPr/>
        </p:nvGrpSpPr>
        <p:grpSpPr>
          <a:xfrm>
            <a:off x="7542360" y="630360"/>
            <a:ext cx="4008240" cy="2604960"/>
            <a:chOff x="7542360" y="630360"/>
            <a:chExt cx="4008240" cy="2604960"/>
          </a:xfrm>
        </p:grpSpPr>
        <p:pic>
          <p:nvPicPr>
            <p:cNvPr id="469" name="Picture 2" descr=""/>
            <p:cNvPicPr/>
            <p:nvPr/>
          </p:nvPicPr>
          <p:blipFill>
            <a:blip r:embed="rId2"/>
            <a:stretch/>
          </p:blipFill>
          <p:spPr>
            <a:xfrm>
              <a:off x="7542360" y="630360"/>
              <a:ext cx="4007880" cy="26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TextBox 7"/>
            <p:cNvSpPr/>
            <p:nvPr/>
          </p:nvSpPr>
          <p:spPr>
            <a:xfrm>
              <a:off x="7624800" y="909720"/>
              <a:ext cx="392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</a:rPr>
                <a:t>喜欢这本书吗？为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Oval 563"/>
          <p:cNvSpPr/>
          <p:nvPr/>
        </p:nvSpPr>
        <p:spPr>
          <a:xfrm>
            <a:off x="5005440" y="2089080"/>
            <a:ext cx="1708200" cy="1766880"/>
          </a:xfrm>
          <a:prstGeom prst="ellipse">
            <a:avLst/>
          </a:prstGeom>
          <a:gradFill rotWithShape="0">
            <a:gsLst>
              <a:gs pos="0">
                <a:srgbClr val="ffe715"/>
              </a:gs>
              <a:gs pos="100000">
                <a:srgbClr val="d2be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WordArt 560"/>
          <p:cNvSpPr txBox="1"/>
          <p:nvPr/>
        </p:nvSpPr>
        <p:spPr>
          <a:xfrm>
            <a:off x="5337000" y="2711520"/>
            <a:ext cx="104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学分享</a:t>
            </a:r>
            <a:endParaRPr b="1" lang="en-US" sz="1400" spc="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p:transition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矩形 28677"/>
          <p:cNvSpPr/>
          <p:nvPr/>
        </p:nvSpPr>
        <p:spPr>
          <a:xfrm>
            <a:off x="1495440" y="1420920"/>
            <a:ext cx="9480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全国小学语文名师工作室联盟薛法根工作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李萍萍   开  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017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8T07:26:00Z</dcterms:created>
  <dc:creator>Administrator</dc:creator>
  <dc:description/>
  <dc:language>en-US</dc:language>
  <cp:lastModifiedBy>_</cp:lastModifiedBy>
  <dcterms:modified xsi:type="dcterms:W3CDTF">2017-08-21T03:41:02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